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C4AA-7767-4BEC-8766-13D17BB8E4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B1F4-6D32-4254-9B61-1ED8A4AF7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F913-B868-4B82-A0EA-020216AC6F1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98DC-7B2C-4080-BFCB-871A29281B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4673-C06B-4D67-A627-3280C99A4A3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7CFB-F6CD-4F2E-B3B5-DDAF933E4A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0321-318B-469D-8252-566588CD3AE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FB010-968B-4C66-B350-68F07FFED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98DBA-77CB-401B-9243-7CC3807A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AF9968-DFE1-4AA6-9AF4-535E12B22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964578-BA9E-4EBA-BEC8-6C0676605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1C2928-0143-42D2-9703-E970DBA10E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F0FA3-E92C-4865-92FD-963157D5AD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FD8E3-FABA-4417-AE31-EED079D3EB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5D35E3-EB7A-4FD9-9424-F585AD145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356886-D0E1-4B8E-87D0-E77207D80F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ACCEBE-3A38-4A17-918D-C469570C8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CA9E74-702D-481C-9F5C-558AFC5A9B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2B3F7-4343-4E8C-9C53-FB2C20B7E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298C1-AAA8-47F9-93AD-2D64B158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B4F4E-44E9-42DE-BD45-4F872C284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E47AD-6E3E-4F9B-8A77-4999FA62F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63F5D-5808-45BA-8BB7-FE8EBE42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765A8-A577-4374-B138-C3D5577F5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327C1-077D-4679-AC13-E0E0D664F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2B51F-938C-460C-AABD-31DBB7A4B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0702-1347-4EB3-B133-473BF24F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8EF31-29BF-496F-B1D5-B789C89EC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1F49-CDC1-4CE5-A25A-A048C0D80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7B41-395E-4F45-90E8-681D624BD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9FA3B-FAC7-4609-BBE7-2C73027C3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40918-E16A-47AE-9BAA-163E63B4F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F0573-6A2C-4015-8946-5FBC1450F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E03813-3BDD-4FDB-9B8B-4ABE7843E7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CB4F3-A3EB-4B42-8D8B-F0F7AD8A2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E9387-BC9B-4FD7-8FA3-544551BFD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38C27-13CE-4B83-B130-320A33496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9CF61-9957-4FF9-9992-D7DBBF965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2DFEA-3ED9-4814-8687-82BF7F76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321F3-E35C-40DF-922D-79B2C09E4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1BA80-EAF8-422D-B8CA-27EC73260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9D5F2-1F99-42F0-BB07-316174391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F6CA4-449E-42C0-AD80-7406B4B9C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E8583-3171-4518-A3F9-61D115777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3E77E5-A81C-4FC4-BA89-C42215FA65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7B1541-5BAC-41C9-A565-4FDAB2413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7BE26-2128-49FF-8364-147787F20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F1BE7-6114-4DA5-A4EB-90979833B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E43CD-4F9B-4B85-BA0E-CA14086B3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28C15-62F8-4C36-B6A8-7C1D6592E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DD269-F539-4B88-95C9-92EF2FE44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36F6F-4D71-4A4B-B0C8-408629466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2A367-5367-46D6-BA67-62D4E21AE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C455A-3519-43FB-8BEE-04EEB4BB2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64AA7-B87B-4218-A82C-03A5D12E1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2FD80-A677-4062-9470-B1C3A047F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6D922-2286-4576-9C91-942F55D4A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45621-3868-4EF5-85C3-EEA0E1E9E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0CA597-3C3B-4278-A1BE-AF9775D50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F11A9F-B3BB-4D90-97BE-D97BD2D971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1425-5888-4403-9B43-237F1FEF3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7A10F-8530-4BBF-A581-B7261777C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9615F-EAA3-420F-872C-63BFAF62E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54EA15-67BA-4DC8-8A2D-55DD626C9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39245-8060-4703-A706-F9C173A07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3D246-9E72-4CC3-AAA0-4AEF39A9E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3D653-221E-4263-B45E-1B53DAA62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4127E-6839-4F2E-9458-5FE3E611E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685DF-D088-4F3E-98B0-65DB3C264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8AE6A-8E12-4BE8-A5E5-7C3FFB0E3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E6EE5-612D-4FD9-9DDA-F423BD9AB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FB25-B2EF-4F33-874B-03C98C61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80F880-3F15-410F-B9FF-3BCEBFADE6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BB9349-BB6D-4ABC-B9C2-081BF99589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9D500-91BE-4F3A-90E8-DBBB0B4D58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CD58B-30C5-49A5-8E39-ED22736D8F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A77B7B-A416-4FE5-A8E5-4194D0737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1D0F3-B557-4896-9BEE-A356D4DF6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BBB7F-92D8-4BF4-A70B-7C531B08C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78C6D-259A-421F-B77A-336BD49BA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5CE80-0EAF-445D-A2F3-2C2A60C7C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26643-1804-49F0-95E9-2AB4BA310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566C-8081-4053-B9C5-7D6B36DF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67BD5-5B5C-4211-80B9-5383BDD8E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330A58-55E0-4FCB-ADF7-1212B5E10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F0077D-1CEC-4648-BDC9-27D61D806D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ABE5A1-0C79-4989-8622-E6914D86F5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EDEBD-9566-4F3B-AA21-29D08CFC3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DCA71-A5FA-430A-A339-95AEDD7122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2E00E-DDB6-430F-A88B-43B44B78A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1F675-31A2-47ED-B4D9-B7EB6E9171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888859-3F48-4E6E-9264-C9728FA5B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6359B0-54D1-4349-85C7-D06456411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A859-BE57-4A0E-BAFB-3AE6FFE1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7F7E1-C47E-4F7C-BE02-465185F4C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CED52-2786-4875-A1C1-2A5825710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68A8A-147E-4186-964B-1588B91EC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E110B8-2A52-4D34-BF27-92479C711F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B7749D-7AAE-4F19-A932-1D58103E0C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09B6BB-981E-4897-BEC7-C7DA468B03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C869C-4A5F-47A3-9A55-4CDAE7CEA9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EBD82A-FBCA-421D-BAB4-ECD92DFCBD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DBFC8-B288-4675-8D10-B0866214BB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E854EC-83BF-42F2-A764-21D0BD209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2EE3-878B-4F18-86EF-C4A71BF8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1C844-343B-4D75-BF22-6160633FA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82AC14-BE4F-40C1-93CA-D97BF7620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FE3CE-A9C3-4ADA-AE63-8B07A28B4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AE2BF-0120-42FE-A460-1B4712B5B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66AD1-857A-4FCB-A776-6726FE517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EAE75A-59B8-47A8-AE39-91B4D2856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E0FFCB-8845-48AA-85F0-5AE47E321E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648A1E-E158-4AF3-A9E7-75984333CD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AA88D5-F107-4040-8BAF-C8BD946414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47BE0-9F97-4E41-8251-008FBF563E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E242-CD51-45E5-9C41-C79A773D24FF}"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E48A-BDC6-463D-AF26-9A2437C2D3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4705-A16F-453A-8DE7-1D2B709A596B}" type="datetime">
              <a:rPr b="0" lang="en-US" sz="1000" spc="-1" strike="noStrike">
                <a:solidFill>
                  <a:srgbClr val="ffffff"/>
                </a:solidFill>
                <a:latin typeface="Times New Roman"/>
              </a:rPr>
              <a:t>07/31/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A96E-DFE0-450B-A953-BF48128445C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073C-C31E-4834-AFA2-A12F00E93C78}"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59FC-0669-4B4C-BB8B-538D445510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8EAF-3001-4485-8B2E-E5AA8C8D68F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4813-73F3-4173-9E8E-7543B1E41E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CA43-1D54-4F11-8B0D-190ACDC9D4A4}"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B5FD-CF9E-41EA-8A44-12EEC2404C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3D46-A09E-4AEC-9127-CDBCD1DF3572}"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184C-97CF-4DAD-8311-904ABBE3AB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9685-8549-4E6D-BA00-F60622184A96}"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69A0-E6A8-4BBC-AC65-62216FD36B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5AC3-CFEA-400E-B741-FEBD45C2AAC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BAC6-B415-42AE-AF20-C50E58C726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32C0-457C-4720-BF34-6B243E9ECEAE}"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99EB-4800-4E55-A54C-8D0E0588A4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6A5A28B7-EB68-4201-8F5E-71410F1A6BA2}" type="slidenum">
              <a:t>1</a:t>
            </a:fld>
          </a:p>
        </p:txBody>
      </p:sp>
      <p:sp>
        <p:nvSpPr>
          <p:cNvPr id="5" name="PlaceHolder 4"/>
          <p:cNvSpPr>
            <a:spLocks noGrp="1"/>
          </p:cNvSpPr>
          <p:nvPr>
            <p:ph type="dt" idx="4"/>
          </p:nvPr>
        </p:nvSpPr>
        <p:spPr/>
        <p:txBody>
          <a:bodyPr/>
          <a:p>
            <a:fld id="{9B0FB1F9-2832-426E-9286-1FF7851A788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EB08-9C8E-4AF5-B329-80AE65E53E89}"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919A-4D08-41E9-A60B-5CF2147E3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108CB95-F989-4311-9DAF-D8AFB397E424}" type="slidenum">
              <a:t>10</a:t>
            </a:fld>
          </a:p>
        </p:txBody>
      </p:sp>
      <p:sp>
        <p:nvSpPr>
          <p:cNvPr id="5" name="PlaceHolder 4"/>
          <p:cNvSpPr>
            <a:spLocks noGrp="1"/>
          </p:cNvSpPr>
          <p:nvPr>
            <p:ph type="dt" idx="1"/>
          </p:nvPr>
        </p:nvSpPr>
        <p:spPr/>
        <p:txBody>
          <a:bodyPr/>
          <a:p>
            <a:fld id="{549BEB2A-CEBB-4F60-AC02-1191683F881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69A699FB-D499-4992-9E3B-7CAEBCF028D0}" type="slidenum">
              <a:t>11</a:t>
            </a:fld>
          </a:p>
        </p:txBody>
      </p:sp>
      <p:sp>
        <p:nvSpPr>
          <p:cNvPr id="3" name="PlaceHolder 2"/>
          <p:cNvSpPr>
            <a:spLocks noGrp="1"/>
          </p:cNvSpPr>
          <p:nvPr>
            <p:ph type="dt" idx="1"/>
          </p:nvPr>
        </p:nvSpPr>
        <p:spPr/>
        <p:txBody>
          <a:bodyPr/>
          <a:p>
            <a:fld id="{8CF87BEB-30FA-43CE-ACE2-F45B7A380B8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4479C3-D027-4845-8790-E84B1300414F}" type="slidenum">
              <a:t>12</a:t>
            </a:fld>
          </a:p>
        </p:txBody>
      </p:sp>
      <p:sp>
        <p:nvSpPr>
          <p:cNvPr id="4" name="PlaceHolder 3"/>
          <p:cNvSpPr>
            <a:spLocks noGrp="1"/>
          </p:cNvSpPr>
          <p:nvPr>
            <p:ph type="dt" idx="1"/>
          </p:nvPr>
        </p:nvSpPr>
        <p:spPr/>
        <p:txBody>
          <a:bodyPr/>
          <a:p>
            <a:fld id="{077075B9-D3FD-4E10-8F14-ED6A200C6C9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86469372-E7B8-46DF-A76F-CDD8FBACE42A}" type="slidenum">
              <a:t>13</a:t>
            </a:fld>
          </a:p>
        </p:txBody>
      </p:sp>
      <p:sp>
        <p:nvSpPr>
          <p:cNvPr id="4" name="PlaceHolder 3"/>
          <p:cNvSpPr>
            <a:spLocks noGrp="1"/>
          </p:cNvSpPr>
          <p:nvPr>
            <p:ph type="dt" idx="1"/>
          </p:nvPr>
        </p:nvSpPr>
        <p:spPr/>
        <p:txBody>
          <a:bodyPr/>
          <a:p>
            <a:fld id="{A07B55E2-5946-4184-AD23-6717E2C8E2C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5E433738-CBDD-4617-9903-B9453203E9BF}" type="slidenum">
              <a:t>14</a:t>
            </a:fld>
          </a:p>
        </p:txBody>
      </p:sp>
      <p:sp>
        <p:nvSpPr>
          <p:cNvPr id="4" name="PlaceHolder 3"/>
          <p:cNvSpPr>
            <a:spLocks noGrp="1"/>
          </p:cNvSpPr>
          <p:nvPr>
            <p:ph type="dt" idx="1"/>
          </p:nvPr>
        </p:nvSpPr>
        <p:spPr/>
        <p:txBody>
          <a:bodyPr/>
          <a:p>
            <a:fld id="{16304120-A641-42DC-B893-8BD950A5A9F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4D453C34-40EE-4BA5-9130-645034F7B622}" type="slidenum">
              <a:t>15</a:t>
            </a:fld>
          </a:p>
        </p:txBody>
      </p:sp>
      <p:sp>
        <p:nvSpPr>
          <p:cNvPr id="3" name="PlaceHolder 2"/>
          <p:cNvSpPr>
            <a:spLocks noGrp="1"/>
          </p:cNvSpPr>
          <p:nvPr>
            <p:ph type="dt" idx="1"/>
          </p:nvPr>
        </p:nvSpPr>
        <p:spPr/>
        <p:txBody>
          <a:bodyPr/>
          <a:p>
            <a:fld id="{239B6A2A-18E8-4015-95F1-8550EE20E4EC}"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FF17A4-4092-4FC0-AA41-6CBC170D3A66}" type="slidenum">
              <a:t>16</a:t>
            </a:fld>
          </a:p>
        </p:txBody>
      </p:sp>
      <p:sp>
        <p:nvSpPr>
          <p:cNvPr id="4" name="PlaceHolder 3"/>
          <p:cNvSpPr>
            <a:spLocks noGrp="1"/>
          </p:cNvSpPr>
          <p:nvPr>
            <p:ph type="dt" idx="1"/>
          </p:nvPr>
        </p:nvSpPr>
        <p:spPr/>
        <p:txBody>
          <a:bodyPr/>
          <a:p>
            <a:fld id="{D9140A4E-122B-4A2B-8593-09E620EE7C8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9061E966-25ED-4C3F-817F-7C775B60D34E}" type="slidenum">
              <a:t>17</a:t>
            </a:fld>
          </a:p>
        </p:txBody>
      </p:sp>
      <p:sp>
        <p:nvSpPr>
          <p:cNvPr id="4" name="PlaceHolder 3"/>
          <p:cNvSpPr>
            <a:spLocks noGrp="1"/>
          </p:cNvSpPr>
          <p:nvPr>
            <p:ph type="dt" idx="4"/>
          </p:nvPr>
        </p:nvSpPr>
        <p:spPr/>
        <p:txBody>
          <a:bodyPr/>
          <a:p>
            <a:fld id="{FD70C5F1-A183-4F81-A31E-6950E19396D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9F283E-D225-494C-B307-9364BAFC6F05}" type="slidenum">
              <a:t>18</a:t>
            </a:fld>
          </a:p>
        </p:txBody>
      </p:sp>
      <p:sp>
        <p:nvSpPr>
          <p:cNvPr id="5" name="PlaceHolder 4"/>
          <p:cNvSpPr>
            <a:spLocks noGrp="1"/>
          </p:cNvSpPr>
          <p:nvPr>
            <p:ph type="dt" idx="1"/>
          </p:nvPr>
        </p:nvSpPr>
        <p:spPr/>
        <p:txBody>
          <a:bodyPr/>
          <a:p>
            <a:fld id="{3B603F20-BC54-467C-A9BE-97A4CABBCBE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A072A8-E211-4A4E-ADF4-8D73CEED4E09}" type="slidenum">
              <a:t>19</a:t>
            </a:fld>
          </a:p>
        </p:txBody>
      </p:sp>
      <p:sp>
        <p:nvSpPr>
          <p:cNvPr id="3" name="PlaceHolder 2"/>
          <p:cNvSpPr>
            <a:spLocks noGrp="1"/>
          </p:cNvSpPr>
          <p:nvPr>
            <p:ph type="dt" idx="1"/>
          </p:nvPr>
        </p:nvSpPr>
        <p:spPr/>
        <p:txBody>
          <a:bodyPr/>
          <a:p>
            <a:fld id="{69D75485-D924-488B-AA48-B7B7794EEC2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3A015526-A7E6-4529-870D-89C531D1B639}" type="slidenum">
              <a:t>2</a:t>
            </a:fld>
          </a:p>
        </p:txBody>
      </p:sp>
      <p:sp>
        <p:nvSpPr>
          <p:cNvPr id="4" name="PlaceHolder 3"/>
          <p:cNvSpPr>
            <a:spLocks noGrp="1"/>
          </p:cNvSpPr>
          <p:nvPr>
            <p:ph type="dt" idx="1"/>
          </p:nvPr>
        </p:nvSpPr>
        <p:spPr/>
        <p:txBody>
          <a:bodyPr/>
          <a:p>
            <a:fld id="{64757E1A-409A-4543-BE58-EBB8994B452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BDE9C6-6AE6-4D7C-A267-AA3A37BD20D0}" type="slidenum">
              <a:t>20</a:t>
            </a:fld>
          </a:p>
        </p:txBody>
      </p:sp>
      <p:sp>
        <p:nvSpPr>
          <p:cNvPr id="3" name="PlaceHolder 2"/>
          <p:cNvSpPr>
            <a:spLocks noGrp="1"/>
          </p:cNvSpPr>
          <p:nvPr>
            <p:ph type="dt" idx="1"/>
          </p:nvPr>
        </p:nvSpPr>
        <p:spPr/>
        <p:txBody>
          <a:bodyPr/>
          <a:p>
            <a:fld id="{50344736-1406-4C29-9C4E-C5416F94C6A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323F6C2-1950-4591-B884-63D77B0A967C}" type="slidenum">
              <a:t>21</a:t>
            </a:fld>
          </a:p>
        </p:txBody>
      </p:sp>
      <p:sp>
        <p:nvSpPr>
          <p:cNvPr id="4" name="PlaceHolder 3"/>
          <p:cNvSpPr>
            <a:spLocks noGrp="1"/>
          </p:cNvSpPr>
          <p:nvPr>
            <p:ph type="dt" idx="1"/>
          </p:nvPr>
        </p:nvSpPr>
        <p:spPr/>
        <p:txBody>
          <a:bodyPr/>
          <a:p>
            <a:fld id="{5F15DE1A-F179-407B-83D8-3678550C17D8}"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8B3200-F3AD-457D-9E6C-D88F643305A4}" type="slidenum">
              <a:t>22</a:t>
            </a:fld>
          </a:p>
        </p:txBody>
      </p:sp>
      <p:sp>
        <p:nvSpPr>
          <p:cNvPr id="3" name="PlaceHolder 2"/>
          <p:cNvSpPr>
            <a:spLocks noGrp="1"/>
          </p:cNvSpPr>
          <p:nvPr>
            <p:ph type="dt" idx="1"/>
          </p:nvPr>
        </p:nvSpPr>
        <p:spPr/>
        <p:txBody>
          <a:bodyPr/>
          <a:p>
            <a:fld id="{B1680534-B4A0-4290-93CF-8F5470C804C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CC6C1BB-71BE-4464-8E99-C8838DF72E77}" type="slidenum">
              <a:t>23</a:t>
            </a:fld>
          </a:p>
        </p:txBody>
      </p:sp>
      <p:sp>
        <p:nvSpPr>
          <p:cNvPr id="3" name="PlaceHolder 2"/>
          <p:cNvSpPr>
            <a:spLocks noGrp="1"/>
          </p:cNvSpPr>
          <p:nvPr>
            <p:ph type="dt" idx="1"/>
          </p:nvPr>
        </p:nvSpPr>
        <p:spPr/>
        <p:txBody>
          <a:bodyPr/>
          <a:p>
            <a:fld id="{8349619D-5E3D-4C58-B5A8-F00FE34D5E10}"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810B28-A48D-4323-9E4F-782A09986B04}" type="slidenum">
              <a:t>24</a:t>
            </a:fld>
          </a:p>
        </p:txBody>
      </p:sp>
      <p:sp>
        <p:nvSpPr>
          <p:cNvPr id="3" name="PlaceHolder 2"/>
          <p:cNvSpPr>
            <a:spLocks noGrp="1"/>
          </p:cNvSpPr>
          <p:nvPr>
            <p:ph type="dt" idx="1"/>
          </p:nvPr>
        </p:nvSpPr>
        <p:spPr/>
        <p:txBody>
          <a:bodyPr/>
          <a:p>
            <a:fld id="{BE84DAA2-D568-4E37-8F57-176EDE000D04}"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E892634-8C0E-4B4B-8295-D0B3B33C0DFA}" type="slidenum">
              <a:t>25</a:t>
            </a:fld>
          </a:p>
        </p:txBody>
      </p:sp>
      <p:sp>
        <p:nvSpPr>
          <p:cNvPr id="3" name="PlaceHolder 2"/>
          <p:cNvSpPr>
            <a:spLocks noGrp="1"/>
          </p:cNvSpPr>
          <p:nvPr>
            <p:ph type="dt" idx="1"/>
          </p:nvPr>
        </p:nvSpPr>
        <p:spPr/>
        <p:txBody>
          <a:bodyPr/>
          <a:p>
            <a:fld id="{937C6636-FBCE-432C-AAD2-BFF7AE2B637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405ACA-5B43-416B-B5D6-1FC8AD9D01C3}" type="slidenum">
              <a:t>26</a:t>
            </a:fld>
          </a:p>
        </p:txBody>
      </p:sp>
      <p:sp>
        <p:nvSpPr>
          <p:cNvPr id="3" name="PlaceHolder 2"/>
          <p:cNvSpPr>
            <a:spLocks noGrp="1"/>
          </p:cNvSpPr>
          <p:nvPr>
            <p:ph type="dt" idx="1"/>
          </p:nvPr>
        </p:nvSpPr>
        <p:spPr/>
        <p:txBody>
          <a:bodyPr/>
          <a:p>
            <a:fld id="{5D1F4888-5F1D-4DE5-8AF0-33EB13AA8695}"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ED19461-B6D4-41F1-9E98-D42F0D2E5273}" type="slidenum">
              <a:t>27</a:t>
            </a:fld>
          </a:p>
        </p:txBody>
      </p:sp>
      <p:sp>
        <p:nvSpPr>
          <p:cNvPr id="3" name="PlaceHolder 2"/>
          <p:cNvSpPr>
            <a:spLocks noGrp="1"/>
          </p:cNvSpPr>
          <p:nvPr>
            <p:ph type="dt" idx="1"/>
          </p:nvPr>
        </p:nvSpPr>
        <p:spPr/>
        <p:txBody>
          <a:bodyPr/>
          <a:p>
            <a:fld id="{A0556CB9-EA67-490F-8E03-B5DCB576FC56}"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7F20-3CDF-4031-B234-0DDB1FA3E1B4}" type="datetime">
              <a:rPr b="0" lang="en-US" sz="1200" spc="-1" strike="noStrike">
                <a:solidFill>
                  <a:srgbClr val="000000"/>
                </a:solidFill>
                <a:latin typeface="Verdana"/>
              </a:rPr>
              <a:t>07/31/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A63F17AF-46C3-41CE-B2BB-D4722B3F9724}" type="slidenum">
              <a:t>28</a:t>
            </a:fld>
          </a:p>
        </p:txBody>
      </p:sp>
      <p:sp>
        <p:nvSpPr>
          <p:cNvPr id="4" name="PlaceHolder 3"/>
          <p:cNvSpPr>
            <a:spLocks noGrp="1"/>
          </p:cNvSpPr>
          <p:nvPr>
            <p:ph type="dt" idx="4"/>
          </p:nvPr>
        </p:nvSpPr>
        <p:spPr/>
        <p:txBody>
          <a:bodyPr/>
          <a:p>
            <a:fld id="{A83E270E-D758-463D-9D6D-17C9DD9B971C}"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302B23BD-0BA7-4902-89CF-E2D6710058FB}" type="slidenum">
              <a:t>29</a:t>
            </a:fld>
          </a:p>
        </p:txBody>
      </p:sp>
      <p:sp>
        <p:nvSpPr>
          <p:cNvPr id="5" name="PlaceHolder 4"/>
          <p:cNvSpPr>
            <a:spLocks noGrp="1"/>
          </p:cNvSpPr>
          <p:nvPr>
            <p:ph type="dt" idx="4"/>
          </p:nvPr>
        </p:nvSpPr>
        <p:spPr/>
        <p:txBody>
          <a:bodyPr/>
          <a:p>
            <a:fld id="{363F36F7-C099-4856-B912-BD372545FAE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37733240-2EC8-4693-987F-ADB5F6956397}" type="slidenum">
              <a:t>3</a:t>
            </a:fld>
          </a:p>
        </p:txBody>
      </p:sp>
      <p:sp>
        <p:nvSpPr>
          <p:cNvPr id="3" name="PlaceHolder 2"/>
          <p:cNvSpPr>
            <a:spLocks noGrp="1"/>
          </p:cNvSpPr>
          <p:nvPr>
            <p:ph type="dt" idx="1"/>
          </p:nvPr>
        </p:nvSpPr>
        <p:spPr/>
        <p:txBody>
          <a:bodyPr/>
          <a:p>
            <a:fld id="{5045B3DB-238F-4D37-8B16-C1B08B5EEDF6}"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A481935-6728-4922-9ED6-286B4B735CAE}" type="slidenum">
              <a:t>30</a:t>
            </a:fld>
          </a:p>
        </p:txBody>
      </p:sp>
      <p:sp>
        <p:nvSpPr>
          <p:cNvPr id="5" name="PlaceHolder 4"/>
          <p:cNvSpPr>
            <a:spLocks noGrp="1"/>
          </p:cNvSpPr>
          <p:nvPr>
            <p:ph type="dt" idx="4"/>
          </p:nvPr>
        </p:nvSpPr>
        <p:spPr/>
        <p:txBody>
          <a:bodyPr/>
          <a:p>
            <a:fld id="{19D9A9DD-2F76-4D88-A94D-5118CE65A3BB}"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AE3EDC16-B8AE-4FDE-9B10-C1608E0DFABF}" type="slidenum">
              <a:t>31</a:t>
            </a:fld>
          </a:p>
        </p:txBody>
      </p:sp>
      <p:sp>
        <p:nvSpPr>
          <p:cNvPr id="5" name="PlaceHolder 4"/>
          <p:cNvSpPr>
            <a:spLocks noGrp="1"/>
          </p:cNvSpPr>
          <p:nvPr>
            <p:ph type="dt" idx="4"/>
          </p:nvPr>
        </p:nvSpPr>
        <p:spPr/>
        <p:txBody>
          <a:bodyPr/>
          <a:p>
            <a:fld id="{69BD127C-B09A-4B9A-9C37-B00F2C6C76E5}"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2EDFC2DA-4912-4088-B5C3-8CFC2AE3568B}" type="slidenum">
              <a:t>32</a:t>
            </a:fld>
          </a:p>
        </p:txBody>
      </p:sp>
      <p:sp>
        <p:nvSpPr>
          <p:cNvPr id="5" name="PlaceHolder 4"/>
          <p:cNvSpPr>
            <a:spLocks noGrp="1"/>
          </p:cNvSpPr>
          <p:nvPr>
            <p:ph type="dt" idx="4"/>
          </p:nvPr>
        </p:nvSpPr>
        <p:spPr/>
        <p:txBody>
          <a:bodyPr/>
          <a:p>
            <a:fld id="{B0D1F8AC-5C0A-4F2F-980C-19CAD2B5D562}"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58DEA761-071D-478F-BE13-2A28164B8492}" type="slidenum">
              <a:t>33</a:t>
            </a:fld>
          </a:p>
        </p:txBody>
      </p:sp>
      <p:sp>
        <p:nvSpPr>
          <p:cNvPr id="5" name="PlaceHolder 4"/>
          <p:cNvSpPr>
            <a:spLocks noGrp="1"/>
          </p:cNvSpPr>
          <p:nvPr>
            <p:ph type="dt" idx="4"/>
          </p:nvPr>
        </p:nvSpPr>
        <p:spPr/>
        <p:txBody>
          <a:bodyPr/>
          <a:p>
            <a:fld id="{00DD5229-F907-4944-AFA6-E21334E4089E}"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36DA4102-93C9-47B8-85B2-4900FB540510}" type="slidenum">
              <a:t>34</a:t>
            </a:fld>
          </a:p>
        </p:txBody>
      </p:sp>
      <p:sp>
        <p:nvSpPr>
          <p:cNvPr id="3" name="PlaceHolder 2"/>
          <p:cNvSpPr>
            <a:spLocks noGrp="1"/>
          </p:cNvSpPr>
          <p:nvPr>
            <p:ph type="dt" idx="4"/>
          </p:nvPr>
        </p:nvSpPr>
        <p:spPr/>
        <p:txBody>
          <a:bodyPr/>
          <a:p>
            <a:fld id="{E2163618-B1F5-433E-B46D-1E493022AE1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E1BCD9FB-08DA-45C3-AD09-C8FAEC4A3DF0}" type="slidenum">
              <a:t>35</a:t>
            </a:fld>
          </a:p>
        </p:txBody>
      </p:sp>
      <p:sp>
        <p:nvSpPr>
          <p:cNvPr id="5" name="PlaceHolder 4"/>
          <p:cNvSpPr>
            <a:spLocks noGrp="1"/>
          </p:cNvSpPr>
          <p:nvPr>
            <p:ph type="dt" idx="4"/>
          </p:nvPr>
        </p:nvSpPr>
        <p:spPr/>
        <p:txBody>
          <a:bodyPr/>
          <a:p>
            <a:fld id="{9BDA7474-439E-48EB-8C98-8C5E6AAFA54D}"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56359713-D8CE-48E2-818A-42994F0F5EB7}" type="slidenum">
              <a:t>36</a:t>
            </a:fld>
          </a:p>
        </p:txBody>
      </p:sp>
      <p:sp>
        <p:nvSpPr>
          <p:cNvPr id="4" name="PlaceHolder 3"/>
          <p:cNvSpPr>
            <a:spLocks noGrp="1"/>
          </p:cNvSpPr>
          <p:nvPr>
            <p:ph type="dt" idx="4"/>
          </p:nvPr>
        </p:nvSpPr>
        <p:spPr/>
        <p:txBody>
          <a:bodyPr/>
          <a:p>
            <a:fld id="{2EEA3D4E-9AA9-435E-A946-9D3EC91D6CD6}"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4D45C687-9457-4D80-B6B9-4A68079BD5B8}" type="slidenum">
              <a:t>37</a:t>
            </a:fld>
          </a:p>
        </p:txBody>
      </p:sp>
      <p:sp>
        <p:nvSpPr>
          <p:cNvPr id="5" name="PlaceHolder 4"/>
          <p:cNvSpPr>
            <a:spLocks noGrp="1"/>
          </p:cNvSpPr>
          <p:nvPr>
            <p:ph type="dt" idx="4"/>
          </p:nvPr>
        </p:nvSpPr>
        <p:spPr/>
        <p:txBody>
          <a:bodyPr/>
          <a:p>
            <a:fld id="{F47F9526-B814-4105-AA74-EB505291F8AA}"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2FB3DE0E-1BCD-4BEA-891B-3D7F951DCF68}" type="slidenum">
              <a:t>38</a:t>
            </a:fld>
          </a:p>
        </p:txBody>
      </p:sp>
      <p:sp>
        <p:nvSpPr>
          <p:cNvPr id="4" name="PlaceHolder 3"/>
          <p:cNvSpPr>
            <a:spLocks noGrp="1"/>
          </p:cNvSpPr>
          <p:nvPr>
            <p:ph type="dt" idx="4"/>
          </p:nvPr>
        </p:nvSpPr>
        <p:spPr/>
        <p:txBody>
          <a:bodyPr/>
          <a:p>
            <a:fld id="{C2DFA070-F946-4B15-9BD0-CBD2753366D5}"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4EB123C-367C-496C-810B-F26DB3C9EBF9}" type="slidenum">
              <a:t>39</a:t>
            </a:fld>
          </a:p>
        </p:txBody>
      </p:sp>
      <p:sp>
        <p:nvSpPr>
          <p:cNvPr id="4" name="PlaceHolder 3"/>
          <p:cNvSpPr>
            <a:spLocks noGrp="1"/>
          </p:cNvSpPr>
          <p:nvPr>
            <p:ph type="dt" idx="4"/>
          </p:nvPr>
        </p:nvSpPr>
        <p:spPr/>
        <p:txBody>
          <a:bodyPr/>
          <a:p>
            <a:fld id="{96E6160A-5EDD-4462-9A11-F43F8573F88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10588BBC-412F-4A1E-B189-4D3D831A588A}" type="slidenum">
              <a:t>4</a:t>
            </a:fld>
          </a:p>
        </p:txBody>
      </p:sp>
      <p:sp>
        <p:nvSpPr>
          <p:cNvPr id="5" name="PlaceHolder 4"/>
          <p:cNvSpPr>
            <a:spLocks noGrp="1"/>
          </p:cNvSpPr>
          <p:nvPr>
            <p:ph type="dt" idx="1"/>
          </p:nvPr>
        </p:nvSpPr>
        <p:spPr/>
        <p:txBody>
          <a:bodyPr/>
          <a:p>
            <a:fld id="{319FF2D6-2141-4FDE-9500-5478548E1059}"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601F8D76-B9B6-42F7-82A6-C5CF21266A6C}" type="slidenum">
              <a:t>40</a:t>
            </a:fld>
          </a:p>
        </p:txBody>
      </p:sp>
      <p:sp>
        <p:nvSpPr>
          <p:cNvPr id="4" name="PlaceHolder 3"/>
          <p:cNvSpPr>
            <a:spLocks noGrp="1"/>
          </p:cNvSpPr>
          <p:nvPr>
            <p:ph type="dt" idx="4"/>
          </p:nvPr>
        </p:nvSpPr>
        <p:spPr/>
        <p:txBody>
          <a:bodyPr/>
          <a:p>
            <a:fld id="{2B7DA0F0-4BDA-4C6A-BDAA-6C95D742EB62}"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73D5CB3C-AD0C-4639-AEA4-1D7AF32039C9}" type="slidenum">
              <a:t>41</a:t>
            </a:fld>
          </a:p>
        </p:txBody>
      </p:sp>
      <p:sp>
        <p:nvSpPr>
          <p:cNvPr id="3" name="PlaceHolder 2"/>
          <p:cNvSpPr>
            <a:spLocks noGrp="1"/>
          </p:cNvSpPr>
          <p:nvPr>
            <p:ph type="dt" idx="4"/>
          </p:nvPr>
        </p:nvSpPr>
        <p:spPr/>
        <p:txBody>
          <a:bodyPr/>
          <a:p>
            <a:fld id="{5DBC1400-08F6-4832-9949-DECFA6E367FE}"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E75C59B5-1DFF-4C53-9396-FE1546AE0EBC}" type="slidenum">
              <a:t>42</a:t>
            </a:fld>
          </a:p>
        </p:txBody>
      </p:sp>
      <p:sp>
        <p:nvSpPr>
          <p:cNvPr id="5" name="PlaceHolder 4"/>
          <p:cNvSpPr>
            <a:spLocks noGrp="1"/>
          </p:cNvSpPr>
          <p:nvPr>
            <p:ph type="dt" idx="4"/>
          </p:nvPr>
        </p:nvSpPr>
        <p:spPr/>
        <p:txBody>
          <a:bodyPr/>
          <a:p>
            <a:fld id="{3D1206E0-B9E9-4D70-9B5F-0C0A526F8A32}"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92A252B4-7F38-43E7-BD3C-303C99E79ED7}" type="slidenum">
              <a:t>43</a:t>
            </a:fld>
          </a:p>
        </p:txBody>
      </p:sp>
      <p:sp>
        <p:nvSpPr>
          <p:cNvPr id="5" name="PlaceHolder 4"/>
          <p:cNvSpPr>
            <a:spLocks noGrp="1"/>
          </p:cNvSpPr>
          <p:nvPr>
            <p:ph type="dt" idx="4"/>
          </p:nvPr>
        </p:nvSpPr>
        <p:spPr/>
        <p:txBody>
          <a:bodyPr/>
          <a:p>
            <a:fld id="{045B096C-A358-4ABE-854B-073B681D37D4}"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9250EAED-D36C-4105-BFC7-54D6FF179AA2}" type="slidenum">
              <a:t>44</a:t>
            </a:fld>
          </a:p>
        </p:txBody>
      </p:sp>
      <p:sp>
        <p:nvSpPr>
          <p:cNvPr id="5" name="PlaceHolder 4"/>
          <p:cNvSpPr>
            <a:spLocks noGrp="1"/>
          </p:cNvSpPr>
          <p:nvPr>
            <p:ph type="dt" idx="4"/>
          </p:nvPr>
        </p:nvSpPr>
        <p:spPr/>
        <p:txBody>
          <a:bodyPr/>
          <a:p>
            <a:fld id="{5CFEB2C3-0825-4967-883D-022E70100ACF}"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EDA95A86-9488-4688-8E76-540137A37D25}" type="slidenum">
              <a:t>45</a:t>
            </a:fld>
          </a:p>
        </p:txBody>
      </p:sp>
      <p:sp>
        <p:nvSpPr>
          <p:cNvPr id="4" name="PlaceHolder 3"/>
          <p:cNvSpPr>
            <a:spLocks noGrp="1"/>
          </p:cNvSpPr>
          <p:nvPr>
            <p:ph type="dt" idx="4"/>
          </p:nvPr>
        </p:nvSpPr>
        <p:spPr/>
        <p:txBody>
          <a:bodyPr/>
          <a:p>
            <a:fld id="{58B2B3AA-6469-435A-9F87-6BB2167D9E18}"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6619EBE1-A899-4E24-B8FC-F60416555F30}" type="slidenum">
              <a:t>46</a:t>
            </a:fld>
          </a:p>
        </p:txBody>
      </p:sp>
      <p:sp>
        <p:nvSpPr>
          <p:cNvPr id="5" name="PlaceHolder 4"/>
          <p:cNvSpPr>
            <a:spLocks noGrp="1"/>
          </p:cNvSpPr>
          <p:nvPr>
            <p:ph type="dt" idx="4"/>
          </p:nvPr>
        </p:nvSpPr>
        <p:spPr/>
        <p:txBody>
          <a:bodyPr/>
          <a:p>
            <a:fld id="{901DBB7C-55FA-4A32-9FAA-2761D665ABCD}"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00DF-4303-485E-8399-0D6A1B854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5E64-7060-40B8-ACDB-E983ECB7C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C7450D1A-D73C-4B84-9A14-68D71EBBD176}" type="slidenum">
              <a:t>47</a:t>
            </a:fld>
          </a:p>
        </p:txBody>
      </p:sp>
      <p:sp>
        <p:nvSpPr>
          <p:cNvPr id="4" name="PlaceHolder 3"/>
          <p:cNvSpPr>
            <a:spLocks noGrp="1"/>
          </p:cNvSpPr>
          <p:nvPr>
            <p:ph type="dt" idx="4"/>
          </p:nvPr>
        </p:nvSpPr>
        <p:spPr/>
        <p:txBody>
          <a:bodyPr/>
          <a:p>
            <a:fld id="{5CE4919C-F763-43D7-8687-0531DBBC4049}"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AC178480-EE73-48A3-A41D-0AAF95EA51F5}" type="slidenum">
              <a:t>48</a:t>
            </a:fld>
          </a:p>
        </p:txBody>
      </p:sp>
      <p:sp>
        <p:nvSpPr>
          <p:cNvPr id="5" name="PlaceHolder 4"/>
          <p:cNvSpPr>
            <a:spLocks noGrp="1"/>
          </p:cNvSpPr>
          <p:nvPr>
            <p:ph type="dt" idx="4"/>
          </p:nvPr>
        </p:nvSpPr>
        <p:spPr/>
        <p:txBody>
          <a:bodyPr/>
          <a:p>
            <a:fld id="{CDB39931-0031-4734-B2FB-6692880361A9}"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174F865E-B11E-470A-A44F-896588311768}" type="slidenum">
              <a:t>49</a:t>
            </a:fld>
          </a:p>
        </p:txBody>
      </p:sp>
      <p:sp>
        <p:nvSpPr>
          <p:cNvPr id="5" name="PlaceHolder 4"/>
          <p:cNvSpPr>
            <a:spLocks noGrp="1"/>
          </p:cNvSpPr>
          <p:nvPr>
            <p:ph type="dt" idx="4"/>
          </p:nvPr>
        </p:nvSpPr>
        <p:spPr/>
        <p:txBody>
          <a:bodyPr/>
          <a:p>
            <a:fld id="{FE8BD1A1-DD9B-4E3A-8A45-300FF4A112E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F6A1095-A739-4D85-AD54-EE3E695CA113}" type="slidenum">
              <a:t>5</a:t>
            </a:fld>
          </a:p>
        </p:txBody>
      </p:sp>
      <p:sp>
        <p:nvSpPr>
          <p:cNvPr id="5" name="PlaceHolder 4"/>
          <p:cNvSpPr>
            <a:spLocks noGrp="1"/>
          </p:cNvSpPr>
          <p:nvPr>
            <p:ph type="dt" idx="1"/>
          </p:nvPr>
        </p:nvSpPr>
        <p:spPr/>
        <p:txBody>
          <a:bodyPr/>
          <a:p>
            <a:fld id="{5BDFAD42-525F-420C-9344-E1BDBC1B187E}"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54F62373-33F8-459D-8D5A-064CC0174EA4}" type="slidenum">
              <a:t>50</a:t>
            </a:fld>
          </a:p>
        </p:txBody>
      </p:sp>
      <p:sp>
        <p:nvSpPr>
          <p:cNvPr id="5" name="PlaceHolder 4"/>
          <p:cNvSpPr>
            <a:spLocks noGrp="1"/>
          </p:cNvSpPr>
          <p:nvPr>
            <p:ph type="dt" idx="4"/>
          </p:nvPr>
        </p:nvSpPr>
        <p:spPr/>
        <p:txBody>
          <a:bodyPr/>
          <a:p>
            <a:fld id="{E498E71C-F6DD-4F9A-8CF7-8BB37AC122EA}"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81DAD58-2905-4FBF-A8C2-5EE8B04A8690}" type="slidenum">
              <a:t>51</a:t>
            </a:fld>
          </a:p>
        </p:txBody>
      </p:sp>
      <p:sp>
        <p:nvSpPr>
          <p:cNvPr id="5" name="PlaceHolder 4"/>
          <p:cNvSpPr>
            <a:spLocks noGrp="1"/>
          </p:cNvSpPr>
          <p:nvPr>
            <p:ph type="dt" idx="4"/>
          </p:nvPr>
        </p:nvSpPr>
        <p:spPr/>
        <p:txBody>
          <a:bodyPr/>
          <a:p>
            <a:fld id="{CAB21F9A-DBEB-4395-8415-3E0DB890A5B7}"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B283C0A3-E8F5-4ECB-8DE5-3326588ECCEB}" type="slidenum">
              <a:t>52</a:t>
            </a:fld>
          </a:p>
        </p:txBody>
      </p:sp>
      <p:sp>
        <p:nvSpPr>
          <p:cNvPr id="5" name="PlaceHolder 4"/>
          <p:cNvSpPr>
            <a:spLocks noGrp="1"/>
          </p:cNvSpPr>
          <p:nvPr>
            <p:ph type="dt" idx="4"/>
          </p:nvPr>
        </p:nvSpPr>
        <p:spPr/>
        <p:txBody>
          <a:bodyPr/>
          <a:p>
            <a:fld id="{E6CC7008-AAB0-475B-8365-4BA351040197}"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E04C6089-0B87-45A0-B732-08E93C600018}" type="slidenum">
              <a:t>53</a:t>
            </a:fld>
          </a:p>
        </p:txBody>
      </p:sp>
      <p:sp>
        <p:nvSpPr>
          <p:cNvPr id="5" name="PlaceHolder 4"/>
          <p:cNvSpPr>
            <a:spLocks noGrp="1"/>
          </p:cNvSpPr>
          <p:nvPr>
            <p:ph type="dt" idx="4"/>
          </p:nvPr>
        </p:nvSpPr>
        <p:spPr/>
        <p:txBody>
          <a:bodyPr/>
          <a:p>
            <a:fld id="{8E4AEAA4-9382-4D09-B476-E4C6A9B125C8}"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23856021-BA5B-4142-9F0B-82E2C74BFEC8}" type="slidenum">
              <a:t>54</a:t>
            </a:fld>
          </a:p>
        </p:txBody>
      </p:sp>
      <p:sp>
        <p:nvSpPr>
          <p:cNvPr id="5" name="PlaceHolder 4"/>
          <p:cNvSpPr>
            <a:spLocks noGrp="1"/>
          </p:cNvSpPr>
          <p:nvPr>
            <p:ph type="dt" idx="4"/>
          </p:nvPr>
        </p:nvSpPr>
        <p:spPr/>
        <p:txBody>
          <a:bodyPr/>
          <a:p>
            <a:fld id="{AFB55FA6-4730-4E72-AC3D-4848169257C6}"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E3CC0F8C-5935-4CAB-A046-83A45AB75579}" type="slidenum">
              <a:t>55</a:t>
            </a:fld>
          </a:p>
        </p:txBody>
      </p:sp>
      <p:sp>
        <p:nvSpPr>
          <p:cNvPr id="5" name="PlaceHolder 4"/>
          <p:cNvSpPr>
            <a:spLocks noGrp="1"/>
          </p:cNvSpPr>
          <p:nvPr>
            <p:ph type="dt" idx="4"/>
          </p:nvPr>
        </p:nvSpPr>
        <p:spPr/>
        <p:txBody>
          <a:bodyPr/>
          <a:p>
            <a:fld id="{A3D283DD-1483-45BC-8227-A29382386AD0}"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4B394D96-C98B-408A-85DA-6B4244EB923E}" type="slidenum">
              <a:t>56</a:t>
            </a:fld>
          </a:p>
        </p:txBody>
      </p:sp>
      <p:sp>
        <p:nvSpPr>
          <p:cNvPr id="5" name="PlaceHolder 4"/>
          <p:cNvSpPr>
            <a:spLocks noGrp="1"/>
          </p:cNvSpPr>
          <p:nvPr>
            <p:ph type="dt" idx="4"/>
          </p:nvPr>
        </p:nvSpPr>
        <p:spPr/>
        <p:txBody>
          <a:bodyPr/>
          <a:p>
            <a:fld id="{453CDD6F-D43C-495D-8530-394E1CDCE5F5}"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7A6313F9-AD60-4BA3-9454-7D74349114AD}" type="slidenum">
              <a:t>57</a:t>
            </a:fld>
          </a:p>
        </p:txBody>
      </p:sp>
      <p:sp>
        <p:nvSpPr>
          <p:cNvPr id="5" name="PlaceHolder 4"/>
          <p:cNvSpPr>
            <a:spLocks noGrp="1"/>
          </p:cNvSpPr>
          <p:nvPr>
            <p:ph type="dt" idx="4"/>
          </p:nvPr>
        </p:nvSpPr>
        <p:spPr/>
        <p:txBody>
          <a:bodyPr/>
          <a:p>
            <a:fld id="{625774D5-37C1-49A4-87D6-35F580812088}"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6669579-C48E-4EA6-9AEC-11624085DD68}" type="slidenum">
              <a:t>58</a:t>
            </a:fld>
          </a:p>
        </p:txBody>
      </p:sp>
      <p:sp>
        <p:nvSpPr>
          <p:cNvPr id="3" name="PlaceHolder 2"/>
          <p:cNvSpPr>
            <a:spLocks noGrp="1"/>
          </p:cNvSpPr>
          <p:nvPr>
            <p:ph type="dt" idx="4"/>
          </p:nvPr>
        </p:nvSpPr>
        <p:spPr/>
        <p:txBody>
          <a:bodyPr/>
          <a:p>
            <a:fld id="{C6ECC1BF-7C9F-486D-928F-C28A8928C37C}"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48F2C66E-476F-48AE-9122-1BE18C218E11}" type="slidenum">
              <a:t>59</a:t>
            </a:fld>
          </a:p>
        </p:txBody>
      </p:sp>
      <p:sp>
        <p:nvSpPr>
          <p:cNvPr id="5" name="PlaceHolder 4"/>
          <p:cNvSpPr>
            <a:spLocks noGrp="1"/>
          </p:cNvSpPr>
          <p:nvPr>
            <p:ph type="dt" idx="4"/>
          </p:nvPr>
        </p:nvSpPr>
        <p:spPr/>
        <p:txBody>
          <a:bodyPr/>
          <a:p>
            <a:fld id="{BB3027EE-A300-4C1E-B884-82D3B4E1E75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733EE6E-B7F5-46FE-B8B7-6A69377DC09F}" type="slidenum">
              <a:t>6</a:t>
            </a:fld>
          </a:p>
        </p:txBody>
      </p:sp>
      <p:sp>
        <p:nvSpPr>
          <p:cNvPr id="3" name="PlaceHolder 2"/>
          <p:cNvSpPr>
            <a:spLocks noGrp="1"/>
          </p:cNvSpPr>
          <p:nvPr>
            <p:ph type="dt" idx="1"/>
          </p:nvPr>
        </p:nvSpPr>
        <p:spPr/>
        <p:txBody>
          <a:bodyPr/>
          <a:p>
            <a:fld id="{709A97C2-0A38-4E4D-AC60-09240CC9ECC7}"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958773E0-AFDB-47B4-BE9F-82F673D12C30}" type="slidenum">
              <a:t>60</a:t>
            </a:fld>
          </a:p>
        </p:txBody>
      </p:sp>
      <p:sp>
        <p:nvSpPr>
          <p:cNvPr id="4" name="PlaceHolder 3"/>
          <p:cNvSpPr>
            <a:spLocks noGrp="1"/>
          </p:cNvSpPr>
          <p:nvPr>
            <p:ph type="dt" idx="4"/>
          </p:nvPr>
        </p:nvSpPr>
        <p:spPr/>
        <p:txBody>
          <a:bodyPr/>
          <a:p>
            <a:fld id="{5E9FA764-3BC7-4C11-B8E7-3E4489910CEC}"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BF9DEE7E-53B1-433A-A107-F148723AD2D1}" type="slidenum">
              <a:t>61</a:t>
            </a:fld>
          </a:p>
        </p:txBody>
      </p:sp>
      <p:sp>
        <p:nvSpPr>
          <p:cNvPr id="4" name="PlaceHolder 3"/>
          <p:cNvSpPr>
            <a:spLocks noGrp="1"/>
          </p:cNvSpPr>
          <p:nvPr>
            <p:ph type="dt" idx="1"/>
          </p:nvPr>
        </p:nvSpPr>
        <p:spPr/>
        <p:txBody>
          <a:bodyPr/>
          <a:p>
            <a:fld id="{44036611-9813-4B3B-893A-8A099336EDC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01444F6-5BEB-4179-80B4-9DC218198EDA}" type="slidenum">
              <a:t>7</a:t>
            </a:fld>
          </a:p>
        </p:txBody>
      </p:sp>
      <p:sp>
        <p:nvSpPr>
          <p:cNvPr id="4" name="PlaceHolder 3"/>
          <p:cNvSpPr>
            <a:spLocks noGrp="1"/>
          </p:cNvSpPr>
          <p:nvPr>
            <p:ph type="dt" idx="1"/>
          </p:nvPr>
        </p:nvSpPr>
        <p:spPr/>
        <p:txBody>
          <a:bodyPr/>
          <a:p>
            <a:fld id="{634A04AA-AF24-4191-B233-44E4C771392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72626A2-CB5D-4569-9720-FC38F8BFC82F}" type="slidenum">
              <a:t>8</a:t>
            </a:fld>
          </a:p>
        </p:txBody>
      </p:sp>
      <p:sp>
        <p:nvSpPr>
          <p:cNvPr id="4" name="PlaceHolder 3"/>
          <p:cNvSpPr>
            <a:spLocks noGrp="1"/>
          </p:cNvSpPr>
          <p:nvPr>
            <p:ph type="dt" idx="1"/>
          </p:nvPr>
        </p:nvSpPr>
        <p:spPr/>
        <p:txBody>
          <a:bodyPr/>
          <a:p>
            <a:fld id="{7CF1D973-0CB7-416E-8CDA-DFF4F2D8492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CABFC7-3343-45B4-A6F8-C2663F54200F}" type="slidenum">
              <a:t>9</a:t>
            </a:fld>
          </a:p>
        </p:txBody>
      </p:sp>
      <p:sp>
        <p:nvSpPr>
          <p:cNvPr id="5" name="PlaceHolder 4"/>
          <p:cNvSpPr>
            <a:spLocks noGrp="1"/>
          </p:cNvSpPr>
          <p:nvPr>
            <p:ph type="dt" idx="1"/>
          </p:nvPr>
        </p:nvSpPr>
        <p:spPr/>
        <p:txBody>
          <a:bodyPr/>
          <a:p>
            <a:fld id="{3B2BFC24-6C43-449F-AFD8-7A7AA398A92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